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6F21-8014-4E02-9DD6-9BB77D1A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CB9C-A55E-42A1-B2E4-4E2BBD70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FB0D-34A9-4FDF-8C9B-24EFFD6E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B1A6-CAF5-4FE4-8D12-CD314BC5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8450-0DF4-4973-A314-899D492C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9CCF-D172-4A4A-A076-944D9DE4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721D-8844-424C-9E32-1401130B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EEC3-B0AF-45EB-AD3B-C36D5B46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C328-5BCF-4702-A9E2-B910F686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7FE5-D2B1-4565-A8DA-17E3BB7C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7141-B08D-4A93-9AC9-01A2E0B6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C860-8376-45CE-B452-109C6F12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80CF-7D50-4014-BD95-62C5C69F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EA92-EC7F-41DD-BCE5-FE58BA73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D8DD-57A5-4B94-8E44-962EF117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0442-8213-4092-BB30-F8B174C8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8407-464C-4D8F-A928-DF461AFA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F2EE-7013-4B91-A650-C8871E82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291A-8E44-4853-ABEE-ABA9836F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2968-DE9E-41CA-A468-B1432E16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5870-D742-4DEB-9573-B3554D0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1428-18C5-4C86-A456-934F8BA6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B2D1-76A6-4A93-A3F3-FECB787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ADEA-1A12-4EF5-BB6C-F22BE060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F10F-5CDE-40A5-8841-EA08A4B8A2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7D23-14B8-46B6-96D8-10202082F6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GIVE US A KING”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e United Kingdom,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2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“The Reign of Solomon”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Kings 1:1-53; 1 Chron. 29:22-2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ges 107-11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et’s Set The Stage -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is 70 years old – frail and near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elected Solomon, David’s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n, to rule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mon – young and inexperi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announced that Solomon would  succe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gave him the blueprints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gave him the materials and organized the people to build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Brief Survey of the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fe of Solom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ellion of Adonij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deal with David’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God for wis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ed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 from the Queen of 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arriages with foreig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falling way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1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was frail, bedfast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autiful young virgin, Abishag, tried to keep him warm and became his 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plotted to seize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onijah was David’s fourth 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pected to be the next king – Amnon, Chileab and Absalom were dea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said, “I will be k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knew Solomon was to be the k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6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assembled Joab, Abiathar, his brothers, and some of David’s offic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lanned to conduct a special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, Benaiah, the mighty men and Solomon were not inv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, the prophet, revealed the plot to Bath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 had a plan to counter the rebe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15-49; 1 Chron. 29:22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hsheba told David about the plot and that Adonija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 confirmed th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made an oath to Bath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ordered Solomon to be anointed king 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learned of the anointment of Solomon and feared for his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50-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would not let go of the altar ho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ade a deal with Solomon to let him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bowed himself before Solomon and wen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6:58:45Z</dcterms:created>
  <dc:creator>Frank D Vines</dc:creator>
  <dc:description/>
  <dc:language>en-US</dc:language>
  <cp:lastModifiedBy>Frank D Vines</cp:lastModifiedBy>
  <cp:lastPrinted>2005-04-26T19:53:42Z</cp:lastPrinted>
  <dcterms:modified xsi:type="dcterms:W3CDTF">2005-07-28T20:27:18Z</dcterms:modified>
  <cp:revision>10</cp:revision>
  <dc:subject/>
  <dc:title>GIVE US A KING The United Kingdom, Part 2</dc:title>
</cp:coreProperties>
</file>